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824-C218-4869-BEE1-D331638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E61-C59F-496C-8947-AAC25D85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A90-DE31-4FED-B03C-C7BD6228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E34-9E6B-4D51-AD42-B3707F9F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CF3-105E-45C2-AF5D-2DABFDB5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711-2088-41C6-999A-2DF316A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CA8-AA7C-4D0A-82E2-0458A29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C49-EA19-4DB4-BC49-5DC8C1A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2E1-4949-447F-8934-DDD632D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8B3-5F08-4792-AA58-0B94AD0E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E0F-B368-4723-ABB7-06743C9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F9E-47CC-4CA8-B966-002A211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D52-5DB7-47AD-BE89-28681752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 Things? Boys or Gir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ail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80512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them ranged 5 and up with 1 equaling the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irls thought it was sour but most of them ranged under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 aren’t as effected to sour things as are guys ar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b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Fulb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ne Ni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Hinsh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k B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las La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e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ys B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on Crand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an Prof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Hend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Bauer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rey To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lah Co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ah Hend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ias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Em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i Do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die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e Ke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y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a Hor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llie Mcelheny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4:09:14Z</dcterms:created>
  <dc:creator>USD376</dc:creator>
  <dc:description/>
  <dc:language>en-US</dc:language>
  <cp:lastModifiedBy>USD376</cp:lastModifiedBy>
  <dcterms:modified xsi:type="dcterms:W3CDTF">2012-05-22T14:16:11Z</dcterms:modified>
  <cp:revision>2</cp:revision>
  <dc:subject/>
  <dc:title>Sour Things? Boys or Girls?</dc:title>
</cp:coreProperties>
</file>